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8A9-ECA4-41AD-8F25-C30F809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4AF-9A26-4C61-B941-022E2D9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8FB-8157-495B-9139-EC27A9B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91A-DEA7-4C69-BAFA-CDF1CA05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A06-28EB-47F6-9E3E-5775AE90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92-9F65-4955-A490-7F7F8AFF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2C1-97EE-4DEB-BB30-F71974D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210-E736-4DE8-BEFA-FAFE8EB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A77-69AA-4806-AC97-5766B4AE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1BE-FA87-4CCD-88A7-7FAAA17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403-91B0-43E1-8330-8FCDBED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709-84B2-4449-97E3-4882DCD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849DD-3A34-41E7-AA0D-E38B57D08C85}" type="slidenum"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s complace presentarles a “The Palms Resort Of Mazatlán", ubicado en las hermosas playas de la costa del Pacífico Mexic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mos seguros que el valor, la calidad y el producto de nuestro hotel son de los más altos estánd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ubicación lo es todo en tus vacaciones. Nuestros huéspedes aman nuestra ubicación en la playa, jardines, alberca con efecto infinito, bar de alberca y cómodas habitaciones que invitan a relajars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Unas vacaciones perfectas en Mazatlán empiezan con unas bellas puestas del sol, brisa tropical del Pacifico, playas cálidas y cristali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Descanse en su oasis personal de confort después de un día de sol y divers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siente tu paladar con nuestra deliciosa variedad gastronómica y exquisita coctelería en nuestros restaurantes y b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58960" y="2533680"/>
            <a:ext cx="4762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</a:rPr>
              <a:t>Contáctano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3527280"/>
            <a:ext cx="9144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01-800-716-97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www.palmsmazatlan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reservaciones@his.com.m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ebook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witter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Youtube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8:03:57Z</dcterms:created>
  <dc:creator>ariel </dc:creator>
  <dc:description/>
  <dc:language>en-US</dc:language>
  <cp:lastModifiedBy>ariel </cp:lastModifiedBy>
  <dcterms:modified xsi:type="dcterms:W3CDTF">2013-02-21T19:01:15Z</dcterms:modified>
  <cp:revision>6</cp:revision>
  <dc:subject/>
  <dc:title/>
</cp:coreProperties>
</file>